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B45-67F1-40F8-AE47-A43557BB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2C2-4E61-42A5-A537-C38FC48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7F4-D591-47CD-B32A-03335BD6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6F2-A711-4F6B-930C-982002DB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D3E-2FB5-4E56-AA77-74686B3E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D91-7186-4ED0-8C17-24FADE1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5BB-99D8-49EA-950B-CEE7491E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C6C-771E-4BAB-AC10-00A693E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2CF-B1C3-4E90-B234-B7B56E21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A7C-5F84-4C14-B5EB-D4E18EF0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E6D-FE51-4D00-8AB5-B5BF1A8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A57-C6E2-4F0D-A37D-A2373AD5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3A0E-697C-4D1D-AB2B-E09CAB5C5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z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Albert Gr.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4572000"/>
            <a:ext cx="2381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8380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Arizona is Pho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5943600" cy="243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76720" y="5791320"/>
            <a:ext cx="200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eni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ho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zona became a state February 14,1912 4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2362320" cy="165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4495680"/>
            <a:ext cx="280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4,006 square miles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3036960"/>
            <a:ext cx="64767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zona` s state flower is the Blossom Of The Saguaro Cact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ckname is the Grand Canyon St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bird is the Cactus W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funny joke about Arizona “What has one eye but, can` t see” Answer Arizon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0120" y="5105520"/>
            <a:ext cx="125244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8:59:26Z</dcterms:created>
  <dc:creator>Mother of Divine Grace</dc:creator>
  <dc:description/>
  <dc:language>en-US</dc:language>
  <cp:lastModifiedBy>Mother of Divine Grace</cp:lastModifiedBy>
  <dcterms:modified xsi:type="dcterms:W3CDTF">2012-05-04T19:36:18Z</dcterms:modified>
  <cp:revision>2</cp:revision>
  <dc:subject/>
  <dc:title>Arizona </dc:title>
</cp:coreProperties>
</file>